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563-DE7D-4BD2-A745-3AA23405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1B0-CDFD-4B8D-9C7E-38FBFAAB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166-1EA2-481A-A7C9-4D8B2FD3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A73-744E-4FDA-BDF0-975C0B97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21D-B670-450B-A2DF-6B4C5924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063D-74F3-4EA0-81AD-A600B5D3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DAE7-9EFE-47C8-9204-2F7B738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3F0-1495-4979-B02B-C0F04D3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FE45-3BB2-4D37-B09F-D67D19A0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1B1B-F547-4257-B532-13804CCF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AE7-FF86-4CE0-B310-612B94C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768-C7AE-4692-A21D-95538919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713D-F9F0-4270-AC96-EAC8859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60A7-6EAA-47BF-A0E8-D5ED4DC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8C3C-C4C7-4F16-9119-DBAE4057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25E4-EB2D-48D8-B299-71DD82A4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90FA-E409-420C-8225-F8A75953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32A-E61D-45CE-85CA-F11054E2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5DF-4C61-4555-8197-37BB4529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48E-8B63-48E7-AE0B-E9689188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35C-A272-47F5-B5D3-847E58AA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931-C708-4727-BB05-65AFB731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FB7-0C3B-4968-BD19-F28AB28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640-A49C-4081-855A-BD956C7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4431-2C7E-49C3-A05B-CD2C427095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EBC1-7B89-49E2-9026-B45C7FE62E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 llamo __________           Clase 6 nh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 fecha es el 4 de junio del 2012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20443"/>
                </a:solidFill>
                <a:latin typeface="Arial"/>
              </a:rPr>
              <a:t>Propósito # 58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A que hora duer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20443"/>
                </a:solidFill>
                <a:latin typeface="Arial"/>
              </a:rPr>
              <a:t>Actividad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Historieta 6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p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Tarea # 5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6216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istorieta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istorieta 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.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a p.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Ejercicio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27:39Z</dcterms:created>
  <dc:creator>Helen Zumaeta</dc:creator>
  <dc:description/>
  <dc:language>en-US</dc:language>
  <cp:lastModifiedBy>Helen Zumaeta</cp:lastModifiedBy>
  <dcterms:modified xsi:type="dcterms:W3CDTF">2012-06-04T00:01:26Z</dcterms:modified>
  <cp:revision>6</cp:revision>
  <dc:subject/>
  <dc:title>Me llamo __________    Clase 7 IM La fecha es el 2 de diciembre del 2010</dc:title>
</cp:coreProperties>
</file>